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4E3-5484-4FCC-84D4-CBDE89EE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5BF-114B-469D-97A8-2CC07B5B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71D-256D-4F63-BEA0-661E301B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F56-CD56-4380-A9B6-28531641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692-F5C1-41F6-B82E-354C066B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8DF-6FC7-413D-9AF6-04FB9504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49D-E1B7-4AFA-8FB9-EF9F8063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B48-2B14-41B2-BE84-F8B2B279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F67-D51B-4F5C-A678-35AD6175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84D-8137-4349-BDDF-FC4E73D6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378-54CA-4065-BCEB-041989C1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ADF-18D5-4327-BDE4-EFA89569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464D-CC64-46F4-8CD0-E6E5613D9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olpc" TargetMode="External"/><Relationship Id="rId2" Type="http://schemas.openxmlformats.org/officeDocument/2006/relationships/hyperlink" Target="http://www.youtube.com/olpc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Goals &amp; Outcom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earn about &amp; become involved in OLPC efforts locally &amp; abr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elf-guided research &amp; interests will determine content area foc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Communicate with International network for expert advice and exchange of ideas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1640" y="16765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Collaborate with peers on project develop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Collaborate with International community &amp; several recognized &amp; established groups/org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Develop prototypes for applications in the Sugar environment for future full development roll-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Assessmen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tudents will be evaluated based on attendance &amp; in/out of class particip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Students will be evaluated on completion &amp; quality of assign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tudents will be evaluated on effective collaboration with pe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1981080"/>
            <a:ext cx="327672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Students will be evaluated on creative problem solving ski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tudents will be evaluated on quality of prototypes pro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Students will be evaluated on Final 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PowerPoint Created by Eric M. G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Intro OLPC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38102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l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OLPC Thank You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OLPC Mission Pa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OLPC Mission Pa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24480" y="3581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990720" y="3581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657600" y="35812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I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Stephen Jaco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Eric M. Gr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9999"/>
                </a:solidFill>
                <a:latin typeface="Arial"/>
              </a:rPr>
              <a:t>Lab for Technological Litera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3505320" cy="2895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3200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cc00"/>
                </a:solidFill>
                <a:latin typeface="Arial"/>
              </a:rPr>
              <a:t>Student Introductio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Maj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Year @ R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Interest in OLP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Arial"/>
              </a:rPr>
              <a:t>What do you want to gain from semina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808080"/>
                </a:solidFill>
                <a:latin typeface="Arial"/>
              </a:rPr>
              <a:t>Please tell us you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Internet Foc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wiki.laptop.org/go/OLPC_Rochester%2C_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1320" y="198108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OLPC Wiki-Rochester, 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769608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Internet Foc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808080"/>
                </a:solidFill>
                <a:latin typeface="Arial"/>
              </a:rPr>
              <a:t>Fedora Wik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6800" y="2057400"/>
            <a:ext cx="46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https://fedoraproject.org/wiki/Fedora_Project_Wi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543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Internet Foc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8080"/>
                </a:solidFill>
                <a:latin typeface="Arial"/>
              </a:rPr>
              <a:t>Sugar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24760" y="205740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http://sugarlabs.org/go/Math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848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Internet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24280" y="159984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delicious.com/maths4olpc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3600" y="1944720"/>
            <a:ext cx="36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Delicious Bookmarks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2975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00"/>
                </a:solidFill>
                <a:latin typeface="Arial"/>
              </a:rPr>
              <a:t>Content Foc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ducation &amp; Outr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4th Grade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Gam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LPC/Sugar/P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edora &amp; IRC Collab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nux/Unix/Open Source/Creative Comm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rt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1981080" cy="1901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19810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629400" y="3886200"/>
            <a:ext cx="1933560" cy="1981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648320" y="3886200"/>
            <a:ext cx="20192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6:27:53Z</dcterms:created>
  <dc:creator>Sam Hoover</dc:creator>
  <dc:description/>
  <dc:language>en-US</dc:language>
  <cp:lastModifiedBy>Sam Hoover</cp:lastModifiedBy>
  <dcterms:modified xsi:type="dcterms:W3CDTF">2009-03-13T08:35:17Z</dcterms:modified>
  <cp:revision>28</cp:revision>
  <dc:subject/>
  <dc:title>PowerPoint Presentation</dc:title>
</cp:coreProperties>
</file>